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070-5581-4932-B461-914EBC6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7DD-A559-46FD-99A0-BC0AE27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553-F15C-44B5-B0BF-F41D0C54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010-ABDE-466A-9CD4-E40C54B1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EAFC-69DA-4CF7-A93B-CEC1078D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F34E-1F1A-42EA-BA39-B5FABFF3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AED-F3B3-429B-AFE9-430C1F4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0ABA-97B1-4F01-BE1F-6CE2DFE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D328-32AD-4F95-BDC1-4DC5F5E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7C4-D1AE-41FF-8068-A6304C2A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9766-E81C-463C-BDB1-80B734E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52E-4987-4A4C-A9D7-041D506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ED8B-41D6-4A3E-A905-7A52809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0DD-5ECD-4C82-9B4D-75E349BA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04C-FC10-4B0C-AB80-7E060371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A715-90BD-400A-8978-8652C057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362F-D919-47FF-A880-36A85A8C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E0D-A52F-4A38-88B8-0CF09E3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2D-CA17-4929-9CDC-49FE69E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B88-1DC4-487A-A6C1-04BFC6F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220-107B-4B04-B722-E368FC8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C5B-E713-43DD-8AD7-9303C3C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4DA-5EC3-46A9-A500-06AAD9A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F98-6F30-4D77-8DEB-0108A1E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C33-1827-4300-B326-60FAB08CB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C1D3-3C86-4B02-9E5B-081EBF0C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ditarod.com/" TargetMode="External"/><Relationship Id="rId2" Type="http://schemas.openxmlformats.org/officeDocument/2006/relationships/hyperlink" Target="http://teacher.scholastic.com/activities/Iditarod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Re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1066320"/>
            <a:ext cx="617220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ditar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the Iditarod ru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Iditarod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 race run? (History behind the ra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participates in the Iditar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e race set up?  What are the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iphthe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hynow.dumka.us/grfx/Iditarod_map.jpg"/>
          <p:cNvPicPr/>
          <p:nvPr/>
        </p:nvPicPr>
        <p:blipFill>
          <a:blip r:embed="rId1"/>
          <a:stretch/>
        </p:blipFill>
        <p:spPr>
          <a:xfrm>
            <a:off x="838080" y="322200"/>
            <a:ext cx="533412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finders to use for research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1"/>
              </a:rPr>
              <a:t>http://www.iditaro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2"/>
              </a:rPr>
              <a:t>http://teacher.scholastic.com/activities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adn.com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2.grand-forks.k12.nd.us/ms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is an older site created by a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ditarodblogs.com/teacher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each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dsc.discovery.com/tv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cludes vide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54:28Z</dcterms:created>
  <dc:creator>jukese</dc:creator>
  <dc:description/>
  <dc:language>en-US</dc:language>
  <cp:lastModifiedBy>jukese</cp:lastModifiedBy>
  <dcterms:modified xsi:type="dcterms:W3CDTF">2009-04-06T13:48:26Z</dcterms:modified>
  <cp:revision>3</cp:revision>
  <dc:subject/>
  <dc:title>Iditarod 2009</dc:title>
</cp:coreProperties>
</file>